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B702-D7EE-4171-8595-7C031C40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73A3-36AE-431D-BE15-758E063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244C-75F0-451D-9E6D-1F6A5A79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DBEE-30BC-40F2-A21C-25C0A3B6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EA50-72F6-49CE-A6E2-0D660370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7C63-9D89-4B4C-BC98-ED15234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E617-D5F7-47DA-B906-1D8482B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1431-595D-490C-803D-D1D9E8E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ECD-5F1D-45AF-A5AD-8F4657E2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F552-2DA3-4BA4-868D-AC66A55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056E-F52E-462F-9251-7612D50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23C0-2096-49E2-BDEC-B0673E0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044-C2D7-4B11-9A3E-899FFEE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3DCF-34FA-4657-B1C8-EA20284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B5D-4980-4300-8BDE-36024F6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9E5D-4355-4E53-BC63-FD23A9EB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6459-FAEF-4FE4-BE9E-F9796D3F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0402-4C4D-4955-BE6E-4369E3D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7939-4157-46F7-95B3-8E171A3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F111-E6F6-4473-B2F7-E80A39F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2908-12E8-4F13-A144-9BE61EE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65F7-2AF2-4467-86B9-6494AF8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D093-37E7-44AA-86DB-2FA056C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B68F-06D8-4D35-B538-431A801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5104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74E-67D9-4D83-B1A5-B959024D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384360" y="62481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2520" cy="6850080"/>
            <a:chOff x="0" y="0"/>
            <a:chExt cx="990252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971800" y="3540240"/>
              <a:ext cx="6925320" cy="3309840"/>
              <a:chOff x="2971800" y="3540240"/>
              <a:chExt cx="692532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971800" y="4197240"/>
                <a:ext cx="495648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171560" y="4240080"/>
                <a:ext cx="216468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987080" y="5311800"/>
                <a:ext cx="489924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725720" y="3540240"/>
                <a:ext cx="51714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740720" y="3678120"/>
                <a:ext cx="214596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713200" y="2128680"/>
              <a:ext cx="31384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90252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84360" y="625104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098840" y="62542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B3D-CA9B-422C-BDD4-ED26BE2B0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68640" y="234720"/>
            <a:ext cx="3197160" cy="21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куратура города Калуги       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полномоченный по правам ребенка в Калужской области</a:t>
            </a:r>
            <a:br>
              <a:rPr sz="2000"/>
            </a:b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редупреждают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3" descr="12"/>
          <p:cNvPicPr/>
          <p:nvPr/>
        </p:nvPicPr>
        <p:blipFill>
          <a:blip r:embed="rId1"/>
          <a:stretch/>
        </p:blipFill>
        <p:spPr>
          <a:xfrm>
            <a:off x="6956280" y="3141720"/>
            <a:ext cx="2749680" cy="172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6464160" y="4664160"/>
            <a:ext cx="3706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ЕСЛИ ВАШЕЙ ЖИЗНИ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УГРОЖАЕТ ОПАСНОС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078000" y="0"/>
            <a:ext cx="3356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152880" y="4292640"/>
            <a:ext cx="3591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общить о неправомерных действиях можно по телефонам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ежурного прокуратуры город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8-910-526- 3689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ппарата Уполномоченного по правам ребенка в Калужской област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6-22-11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 также в органы полиции и в комиссию по делам несовершеннолетних и защите их прав муниципального образования «Город Калуга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936880" y="-171360"/>
            <a:ext cx="36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Garamond"/>
              </a:rPr>
              <a:t>КУДА МОЖНО ОБРАТИТЬСЯ ЗА ПОМОЩЬЮ?</a:t>
            </a:r>
            <a:br>
              <a:rPr sz="1500"/>
            </a:br>
            <a:br>
              <a:rPr sz="15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ЕСЛИ ВАШЕЙ ЖИЗНИ УГРОЖАЕТ ОПАСНОСТЬ, НЕОБХОДИМО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ВЫЗВАТЬ ПОЛИЦИЮ, ОБРАТИТЬСЯ В БЛИЖАЙШУЮ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ЛИКЛИНИКУ ИЛИ В ТРАВМПУНКТ, ЧТОБЫ СНЯТЬ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ПОБОИ И ПОЛУЧИТЬ НЕОБХОДИМУЮ ПОМОЩЬ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20" descr=""/>
          <p:cNvPicPr/>
          <p:nvPr/>
        </p:nvPicPr>
        <p:blipFill>
          <a:blip r:embed="rId2"/>
          <a:stretch/>
        </p:blipFill>
        <p:spPr>
          <a:xfrm>
            <a:off x="3368520" y="2349360"/>
            <a:ext cx="282924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0" y="1916280"/>
            <a:ext cx="2936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ВЫ НЕ МОЖЕТЕ ВЫЙТИ ИЗ КВАРТИРЫ:</a:t>
            </a:r>
            <a:br>
              <a:rPr sz="14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br>
              <a:rPr sz="1300"/>
            </a:b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запритесь в ванной или другом недоступном для «дебошира» помещении с телефоном и попытайтесь вызвать полицию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позвоните друзьям или соседям и попросите их прийти на помощь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громко зовите: «На помощь», кричите «Пожар» и т.п.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откройте окна и попытайтесь привлечь внимание прохожих, взывая их о помощи;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- если Вам все-таки удалось выскочить на лестничную площадку, то звоните во все двери, кричите, зовите на помощь. Даже если никто не выйдет, это может, по крайней мере, остудить нападающего, а у Вас будут свидетели происшествия в случае, если Вы в дальнейшем обратитесь в полици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3"/>
          <a:stretch/>
        </p:blipFill>
        <p:spPr>
          <a:xfrm>
            <a:off x="200160" y="120600"/>
            <a:ext cx="2592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297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НАСИЛИЕ В СЕМЬ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явление достаточно распространенное. Причинами его проявления могут быть ревность, непрощение обиды, пьянство, алкоголизм, патология личности одного или обоих супругов и др. Подвергаться насилию может любой человек, но в семье чаще всего от насилия страдают женщины и дети. Зачастую женщина, живущая в ситуации насилия, даже и не догадывается, что происходящее с ней является насилием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ДОМАШНЕЕ НАСИЛИЕ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- это повторяющийся с увеличением частоты цикл физического, словесного, эмоционального, духовного оскорбления с целью контроля, запугивания, страх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СУЩЕСТВУЮТ РАЗЛИЧНЫЕ ВИДЫ ДОМАШНЕГО НАСИЛИЯ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Garamond"/>
              </a:rPr>
              <a:t>1.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ФИЗИЧЕСКОЕ НАСИЛИЕ - причинение боли посредством пощечин, пинков и ударов кулаком. В роли насильника выступает, как правило, мужчина. Он избивает свою жертву, толкает, угрожает оружием, физически препятствует попытке выйти из дома. Снаружи закрывает дверь в помещении, не дает заснуть ночью. Портит имущество, швыряет предметы, избивает детей. Угрожает причинить вред другим родственникам или друзья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4520" y="188640"/>
            <a:ext cx="308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ЕСЛИ ЕСТЬ УГРОЗА ЖИЗН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оговоритесь со своими соседями, чтобы они вызвали полицию, если услышат шум и крики из вашей квартиры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приготовьте деньги, документы, одежду где-нибудь вне дома (у родственников, друзей)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заранее договоритесь с друзьями о предоставлении временного убежища;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держите документы, ключи, деньги в доступном месте для того, чтобы, взяв их, можно было быстро покинуть квартиру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сделайте всё возможное, чтобы обидчик не нашел Вас. Спрячьте или уничтожьте все свои записные книжки, конверты с адресами, которые могли бы помочь ему найти Вас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- если ситуация критическая, то необходимо покинуть дом незамедлительно, даже если Вам не удалось взять необходимые вещи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Garamond"/>
              </a:rPr>
              <a:t>ПОМНИТЕ, ПОД УГРОЗОЙ ВАША ЖИЗНЬ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224160" y="0"/>
            <a:ext cx="3457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ffcc00"/>
                </a:solidFill>
                <a:latin typeface="Garamond"/>
              </a:rPr>
              <a:t>2.</a:t>
            </a:r>
            <a:r>
              <a:rPr b="1" lang="en-US" sz="1300" spc="-1" strike="noStrike">
                <a:solidFill>
                  <a:srgbClr val="ffffff"/>
                </a:solidFill>
                <a:latin typeface="Garamond"/>
              </a:rPr>
              <a:t> СЕКСУАЛЬНОЕ НАСИЛИЕ - совершение сексуальных действий против воли партнера, а также принуждение партнера к неприемлемым для него приемам, способам сексуальных отношений. Изнасилование. Заставляет раздеваться против воли женщины, совершает половые сношения с особой жестокостью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8" descr="2-seksualnoe-nasilie"/>
          <p:cNvPicPr/>
          <p:nvPr/>
        </p:nvPicPr>
        <p:blipFill>
          <a:blip r:embed="rId1"/>
          <a:stretch/>
        </p:blipFill>
        <p:spPr>
          <a:xfrm>
            <a:off x="3657600" y="1628640"/>
            <a:ext cx="2967120" cy="1729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3224160" y="3429000"/>
            <a:ext cx="3511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cc00"/>
                </a:solidFill>
                <a:latin typeface="Garamond"/>
              </a:rPr>
              <a:t>3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ЭМОЦИОНАЛЬНОЕ НАСИЛИЕ -оскорбления, крики, грубость, нецензурная брань. Постоянно критикует, кричит или обижает (например, говоря, что женщина слишком толстая, тощая, глупая;. очень плохая мать, любовница). Поднимает на смех ее убеждения. Манипулирует ею, используя при этом ложь и несогласие. Препятствует ей поддерживать отношения с родственниками и друзьями. Унижает ее на публике, угрожает уйти или выгнать из дома. Угрожает похитить детей, наказывает их, не допускает женщину к детям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Garamond"/>
              </a:rPr>
              <a:t>«СЕМЕЙНЫЕ ДЕБОШИРЫ» ПОДЛЕЖАТ ПРИВЛЕЧЕНИЮ К УГОЛОВНОЙ ИЛИ АДМИНИСТРАТИВНОЙ ОТВЕТСТВЕННОСТИ!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6:08:35Z</dcterms:created>
  <dc:creator>Администратор</dc:creator>
  <dc:description/>
  <dc:language>en-US</dc:language>
  <cp:lastModifiedBy>Admin</cp:lastModifiedBy>
  <dcterms:modified xsi:type="dcterms:W3CDTF">2017-01-18T14:02:17Z</dcterms:modified>
  <cp:revision>25</cp:revision>
  <dc:subject/>
  <dc:title>Насилие в семье</dc:title>
</cp:coreProperties>
</file>