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C2A27-CBC6-4D43-8012-B45CB4FA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6FAED-3F40-4BD1-9698-BE0ED145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5C9A7-FC58-4746-BD2F-0829B4E0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8C6D1-B34B-4B63-B205-305C1010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C540-A4F7-4D98-AF1E-1916BF49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8025-CE39-43AB-8592-3B121110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F47F-CC6D-47A0-8A1E-2DD11020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64BD-E752-446F-8EB1-A7043463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DB0A-AEE1-487E-8A3F-EA15F3F8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C356-3BA1-4B35-A4D4-3C6964AB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C902-8B40-469C-B860-1474B043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961EA-A5B5-4DE6-858E-5F3BFACA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D564-328B-4EA2-9607-2C50743B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EBD7-6D1B-4E3E-AF6B-AEA077B2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EE4D-2815-4924-A7B2-69AF3CD3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727A-E922-4C16-A9DB-24F70579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B988-5154-4251-AA91-C75D403B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3EF9E-4E6E-468C-8AF0-97778032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A93E-57F9-4E25-9405-E059C57B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BD682-9789-4C56-B302-9AC3D6C3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DE7DE-6D5A-4F7D-9339-48C49C06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34282-FF39-43B9-82C7-5CF1C128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D604D-2FA8-4F41-9561-821C517F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DBBBB-2BFA-4237-9227-87E082BC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95360" y="625104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1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D874-A143-4976-B20A-360A9CE29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2520" cy="6850080"/>
            <a:chOff x="0" y="0"/>
            <a:chExt cx="990252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971800" y="3540240"/>
              <a:ext cx="6925320" cy="3309840"/>
              <a:chOff x="2971800" y="3540240"/>
              <a:chExt cx="692532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971800" y="4197240"/>
                <a:ext cx="495648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171560" y="4240080"/>
                <a:ext cx="216468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87080" y="5311800"/>
                <a:ext cx="489924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725720" y="3540240"/>
                <a:ext cx="51714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740720" y="3678120"/>
                <a:ext cx="214596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713200" y="2128680"/>
              <a:ext cx="31384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90252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384360" y="624816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2520" cy="6850080"/>
            <a:chOff x="0" y="0"/>
            <a:chExt cx="990252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971800" y="3540240"/>
              <a:ext cx="6925320" cy="3309840"/>
              <a:chOff x="2971800" y="3540240"/>
              <a:chExt cx="692532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971800" y="4197240"/>
                <a:ext cx="495648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171560" y="4240080"/>
                <a:ext cx="216468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987080" y="5311800"/>
                <a:ext cx="489924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725720" y="3540240"/>
                <a:ext cx="51714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740720" y="3678120"/>
                <a:ext cx="214596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713200" y="2128680"/>
              <a:ext cx="31384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90252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95360" y="624816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384360" y="625104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098840" y="625428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92BB-FCEA-42DB-B116-93DE7BA6B1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68640" y="234720"/>
            <a:ext cx="3197160" cy="21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окуратура города Калуги       и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Уполномоченный по правам ребенка в Калужской области</a:t>
            </a:r>
            <a:br>
              <a:rPr sz="2000"/>
            </a:b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предупреждают</a:t>
            </a:r>
            <a:br>
              <a:rPr sz="2000"/>
            </a:b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НАСИЛИЕ В СЕМЬ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13" descr="12"/>
          <p:cNvPicPr/>
          <p:nvPr/>
        </p:nvPicPr>
        <p:blipFill>
          <a:blip r:embed="rId1"/>
          <a:stretch/>
        </p:blipFill>
        <p:spPr>
          <a:xfrm>
            <a:off x="6956280" y="3141720"/>
            <a:ext cx="2749680" cy="1727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4"/>
          <p:cNvSpPr/>
          <p:nvPr/>
        </p:nvSpPr>
        <p:spPr>
          <a:xfrm>
            <a:off x="6464160" y="4664160"/>
            <a:ext cx="37069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 u="sng">
                <a:solidFill>
                  <a:srgbClr val="ffcc00"/>
                </a:solidFill>
                <a:uFillTx/>
                <a:latin typeface="Garamond"/>
              </a:rPr>
              <a:t>ЕСЛИ ВАШЕЙ ЖИЗНИ</a:t>
            </a:r>
            <a:br>
              <a:rPr sz="2400"/>
            </a:b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УГРОЖАЕТ ОПАСНОСТ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3078000" y="0"/>
            <a:ext cx="335628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3152880" y="4292640"/>
            <a:ext cx="3591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ообщить о неправомерных действиях можно по телефонам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ежурного прокуратуры город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 8-910-526- 3689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Аппарата Уполномоченного по правам ребенка в Калужской области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6-22-11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а также в органы полиции и в комиссию по делам несовершеннолетних и защите их прав муниципального образования «Город Калуга»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2936880" y="-171360"/>
            <a:ext cx="3672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cc00"/>
                </a:solidFill>
                <a:uFillTx/>
                <a:latin typeface="Garamond"/>
              </a:rPr>
              <a:t>КУДА МОЖНО ОБРАТИТЬСЯ ЗА ПОМОЩЬЮ?</a:t>
            </a:r>
            <a:br>
              <a:rPr sz="1500"/>
            </a:br>
            <a:br>
              <a:rPr sz="15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ЕСЛИ ВАШЕЙ ЖИЗНИ УГРОЖАЕТ ОПАСНОСТЬ, НЕОБХОДИМО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ВЫЗВАТЬ ПОЛИЦИЮ, ОБРАТИТЬСЯ В БЛИЖАЙШУЮ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ПОЛИКЛИНИКУ ИЛИ В ТРАВМПУНКТ, ЧТОБЫ СНЯТЬ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ПОБОИ И ПОЛУЧИТЬ НЕОБХОДИМУЮ ПОМОЩЬ.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20" descr=""/>
          <p:cNvPicPr/>
          <p:nvPr/>
        </p:nvPicPr>
        <p:blipFill>
          <a:blip r:embed="rId2"/>
          <a:stretch/>
        </p:blipFill>
        <p:spPr>
          <a:xfrm>
            <a:off x="3368520" y="2349360"/>
            <a:ext cx="2829240" cy="1871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1"/>
          <p:cNvSpPr/>
          <p:nvPr/>
        </p:nvSpPr>
        <p:spPr>
          <a:xfrm>
            <a:off x="0" y="1916280"/>
            <a:ext cx="29368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Garamond"/>
              </a:rPr>
              <a:t>ЕСЛИ ВЫ НЕ МОЖЕТЕ ВЫЙТИ ИЗ КВАРТИРЫ:</a:t>
            </a:r>
            <a:br>
              <a:rPr sz="1400"/>
            </a:br>
            <a:r>
              <a:rPr b="1" lang="en-US" sz="1300" spc="-1" strike="noStrike">
                <a:solidFill>
                  <a:srgbClr val="ffcc00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                                                 </a:t>
            </a:r>
            <a:br>
              <a:rPr sz="1300"/>
            </a:br>
            <a:r>
              <a:rPr b="1" lang="en-US" sz="13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- запритесь в ванной или другом недоступном для «дебошира» помещении с телефоном и попытайтесь вызвать полицию;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- позвоните друзьям или соседям и попросите их прийти на помощь;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- громко зовите: «На помощь», кричите «Пожар» и т.п.;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- откройте окна и попытайтесь привлечь внимание прохожих, взывая их о помощи;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- если Вам все-таки удалось выскочить на лестничную площадку, то звоните во все двери, кричите, зовите на помощь. Даже если никто не выйдет, это может, по крайней мере, остудить нападающего, а у Вас будут свидетели происшествия в случае, если Вы в дальнейшем обратитесь в полицию.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23" descr=""/>
          <p:cNvPicPr/>
          <p:nvPr/>
        </p:nvPicPr>
        <p:blipFill>
          <a:blip r:embed="rId3"/>
          <a:stretch/>
        </p:blipFill>
        <p:spPr>
          <a:xfrm>
            <a:off x="200160" y="120600"/>
            <a:ext cx="259236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297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Garamond"/>
              </a:rPr>
              <a:t>НАСИЛИЕ В СЕМЬЕ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- явление достаточно распространенное. Причинами его проявления могут быть ревность, непрощение обиды, пьянство, алкоголизм, патология личности одного или обоих супругов и др. Подвергаться насилию может любой человек, но в семье чаще всего от насилия страдают женщины и дети. Зачастую женщина, живущая в ситуации насилия, даже и не догадывается, что происходящее с ней является насилием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cc00"/>
                </a:solidFill>
                <a:latin typeface="Garamond"/>
              </a:rPr>
              <a:t>ДОМАШНЕЕ НАСИЛИЕ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- это повторяющийся с увеличением частоты цикл физического, словесного, эмоционального, духовного оскорбления с целью контроля, запугивания, страх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Garamond"/>
              </a:rPr>
              <a:t>СУЩЕСТВУЮТ РАЗЛИЧНЫЕ ВИДЫ ДОМАШНЕГО НАСИЛИЯ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cc00"/>
                </a:solidFill>
                <a:latin typeface="Garamond"/>
              </a:rPr>
              <a:t>1.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ФИЗИЧЕСКОЕ НАСИЛИЕ - причинение боли посредством пощечин, пинков и ударов кулаком. В роли насильника выступает, как правило, мужчина. Он избивает свою жертву, толкает, угрожает оружием, физически препятствует попытке выйти из дома. Снаружи закрывает дверь в помещении, не дает заснуть ночью. Портит имущество, швыряет предметы, избивает детей. Угрожает причинить вред другим родственникам или друзьям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4520" y="188640"/>
            <a:ext cx="3081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Garamond"/>
              </a:rPr>
              <a:t>ЕСЛИ ЕСТЬ УГРОЗА ЖИЗНИ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договоритесь со своими соседями, чтобы они вызвали полицию, если услышат шум и крики из вашей квартиры;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приготовьте деньги, документы, одежду где-нибудь вне дома (у родственников, друзей);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заранее договоритесь с друзьями о предоставлении временного убежища; 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держите документы, ключи, деньги в доступном месте для того, чтобы, взяв их, можно было быстро покинуть квартиру;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сделайте всё возможное, чтобы обидчик не нашел Вас. Спрячьте или уничтожьте все свои записные книжки, конверты с адресами, которые могли бы помочь ему найти Вас;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если ситуация критическая, то необходимо покинуть дом незамедлительно, даже если Вам не удалось взять необходимые вещи. 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Garamond"/>
              </a:rPr>
              <a:t>ПОМНИТЕ, ПОД УГРОЗОЙ ВАША ЖИЗНЬ!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3224160" y="0"/>
            <a:ext cx="345780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300" spc="-1" strike="noStrike">
                <a:solidFill>
                  <a:srgbClr val="ffcc00"/>
                </a:solidFill>
                <a:latin typeface="Garamond"/>
              </a:rPr>
              <a:t>2.</a:t>
            </a: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 СЕКСУАЛЬНОЕ НАСИЛИЕ - совершение сексуальных действий против воли партнера, а также принуждение партнера к неприемлемым для него приемам, способам сексуальных отношений. Изнасилование. Заставляет раздеваться против воли женщины, совершает половые сношения с особой жестокостью.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18" descr="2-seksualnoe-nasilie"/>
          <p:cNvPicPr/>
          <p:nvPr/>
        </p:nvPicPr>
        <p:blipFill>
          <a:blip r:embed="rId1"/>
          <a:stretch/>
        </p:blipFill>
        <p:spPr>
          <a:xfrm>
            <a:off x="3657600" y="1628640"/>
            <a:ext cx="2967120" cy="17290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9"/>
          <p:cNvSpPr/>
          <p:nvPr/>
        </p:nvSpPr>
        <p:spPr>
          <a:xfrm>
            <a:off x="3224160" y="3429000"/>
            <a:ext cx="3511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cc00"/>
                </a:solidFill>
                <a:latin typeface="Garamond"/>
              </a:rPr>
              <a:t>3.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ЭМОЦИОНАЛЬНОЕ НАСИЛИЕ -оскорбления, крики, грубость, нецензурная брань. Постоянно критикует, кричит или обижает (например, говоря, что женщина слишком толстая, тощая, глупая;. очень плохая мать, любовница). Поднимает на смех ее убеждения. Манипулирует ею, используя при этом ложь и несогласие. Препятствует ей поддерживать отношения с родственниками и друзьями. Унижает ее на публике, угрожает уйти или выгнать из дома. Угрожает похитить детей, наказывает их, не допускает женщину к детям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Garamond"/>
              </a:rPr>
              <a:t>«СЕМЕЙНЫЕ ДЕБОШИРЫ» ПОДЛЕЖАТ ПРИВЛЕЧЕНИЮ К УГОЛОВНОЙ ИЛИ АДМИНИСТРАТИВНОЙ ОТВЕТСТВЕННОСТИ!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06:08:35Z</dcterms:created>
  <dc:creator>Администратор</dc:creator>
  <dc:description/>
  <dc:language>en-US</dc:language>
  <cp:lastModifiedBy>Admin</cp:lastModifiedBy>
  <dcterms:modified xsi:type="dcterms:W3CDTF">2017-01-18T14:02:17Z</dcterms:modified>
  <cp:revision>25</cp:revision>
  <dc:subject/>
  <dc:title>Насилие в семье</dc:title>
</cp:coreProperties>
</file>