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391C-C7A1-48D1-A5B4-67B88E97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6178B-925D-471A-8290-7202FDE8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C649-E26B-473B-BDB8-6A8C7124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91B26-7322-4149-BC14-3C06FAB6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4B42-9F4A-46B8-8F00-5CC22043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52A9-C695-45E5-A6F8-9797992F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73F6-69A6-4FF5-AC25-95AB4C16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FF1C-88F1-49AF-9F8F-833FA59C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059A-80B9-492F-AA61-8CC4D5A6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8948-549B-4849-86D7-5406EF3F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3321-05CB-47E5-BD46-C777F4B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9504-072D-42F2-B454-4EAFA524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1E01-2612-4FA4-9D68-8F0B21E0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7996-9143-48DC-94F0-99B63375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365D-FA70-4C38-A40B-8649349A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53F4-5AC5-4122-88BC-B9718400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AAF6-817E-462B-9BAC-96891C9D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4019-1B6E-4456-BAC2-B3C50CF8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9D17-5428-4D50-9D67-1C0EFB54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B852-69DE-429A-8A1A-7BB0C8A3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3282-2DAA-4A02-B90D-F4314A0B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DF7C-BD28-4E1C-861C-D747C3A3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BB20-7981-4BA9-B90E-BF0A163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7D45-CE45-4072-9FA8-277CD849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25104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1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4551-1A5D-458D-84EA-3262DBD1F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2520" cy="6850080"/>
            <a:chOff x="0" y="0"/>
            <a:chExt cx="990252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971800" y="3540240"/>
              <a:ext cx="6925320" cy="3309840"/>
              <a:chOff x="2971800" y="3540240"/>
              <a:chExt cx="692532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971800" y="4197240"/>
                <a:ext cx="495648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171560" y="4240080"/>
                <a:ext cx="216468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87080" y="5311800"/>
                <a:ext cx="489924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725720" y="3540240"/>
                <a:ext cx="51714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740720" y="3678120"/>
                <a:ext cx="214596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713200" y="2128680"/>
              <a:ext cx="31384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9025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384360" y="62481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2520" cy="6850080"/>
            <a:chOff x="0" y="0"/>
            <a:chExt cx="990252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971800" y="3540240"/>
              <a:ext cx="6925320" cy="3309840"/>
              <a:chOff x="2971800" y="3540240"/>
              <a:chExt cx="692532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971800" y="4197240"/>
                <a:ext cx="495648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171560" y="4240080"/>
                <a:ext cx="216468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987080" y="5311800"/>
                <a:ext cx="489924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725720" y="3540240"/>
                <a:ext cx="51714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740720" y="3678120"/>
                <a:ext cx="214596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713200" y="2128680"/>
              <a:ext cx="31384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9025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24816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84360" y="625104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098840" y="625428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DC56-4EC5-4EE3-AE86-15251EE284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68640" y="234720"/>
            <a:ext cx="3197160" cy="21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окуратура города Калуги       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полномоченный по правам ребенка в Калужской области</a:t>
            </a:r>
            <a:br>
              <a:rPr sz="2000"/>
            </a:b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предупреждают</a:t>
            </a:r>
            <a:br>
              <a:rPr sz="2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НАСИЛИЕ В СЕМЬ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13" descr="12"/>
          <p:cNvPicPr/>
          <p:nvPr/>
        </p:nvPicPr>
        <p:blipFill>
          <a:blip r:embed="rId1"/>
          <a:stretch/>
        </p:blipFill>
        <p:spPr>
          <a:xfrm>
            <a:off x="6956280" y="3141720"/>
            <a:ext cx="2749680" cy="1727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4"/>
          <p:cNvSpPr/>
          <p:nvPr/>
        </p:nvSpPr>
        <p:spPr>
          <a:xfrm>
            <a:off x="6464160" y="4664160"/>
            <a:ext cx="37069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 u="sng">
                <a:solidFill>
                  <a:srgbClr val="ffcc00"/>
                </a:solidFill>
                <a:uFillTx/>
                <a:latin typeface="Garamond"/>
              </a:rPr>
              <a:t>ЕСЛИ ВАШЕЙ ЖИЗНИ</a:t>
            </a:r>
            <a:br>
              <a:rPr sz="2400"/>
            </a:b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УГРОЖАЕТ ОПАСНОС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078000" y="0"/>
            <a:ext cx="33562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152880" y="4292640"/>
            <a:ext cx="3591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ообщить о неправомерных действиях можно по телефонам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ежурного прокуратуры город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 8-910-526- 3689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ппарата Уполномоченного по правам ребенка в Калужской област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6-22-11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 также в органы полиции и в комиссию по делам несовершеннолетних и защите их прав муниципального образования «Город Калуга»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2936880" y="-171360"/>
            <a:ext cx="3672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cc00"/>
                </a:solidFill>
                <a:uFillTx/>
                <a:latin typeface="Garamond"/>
              </a:rPr>
              <a:t>КУДА МОЖНО ОБРАТИТЬСЯ ЗА ПОМОЩЬЮ?</a:t>
            </a:r>
            <a:br>
              <a:rPr sz="1500"/>
            </a:br>
            <a:br>
              <a:rPr sz="15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ЕСЛИ ВАШЕЙ ЖИЗНИ УГРОЖАЕТ ОПАСНОСТЬ, НЕОБХОДИМО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ВЫЗВАТЬ ПОЛИЦИЮ, ОБРАТИТЬСЯ В БЛИЖАЙШУЮ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ПОЛИКЛИНИКУ ИЛИ В ТРАВМПУНКТ, ЧТОБЫ СНЯТЬ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ПОБОИ И ПОЛУЧИТЬ НЕОБХОДИМУЮ ПОМОЩЬ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20" descr=""/>
          <p:cNvPicPr/>
          <p:nvPr/>
        </p:nvPicPr>
        <p:blipFill>
          <a:blip r:embed="rId2"/>
          <a:stretch/>
        </p:blipFill>
        <p:spPr>
          <a:xfrm>
            <a:off x="3368520" y="2349360"/>
            <a:ext cx="2829240" cy="1871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1"/>
          <p:cNvSpPr/>
          <p:nvPr/>
        </p:nvSpPr>
        <p:spPr>
          <a:xfrm>
            <a:off x="0" y="1916280"/>
            <a:ext cx="2936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ЕСЛИ ВЫ НЕ МОЖЕТЕ ВЫЙТИ ИЗ КВАРТИРЫ:</a:t>
            </a:r>
            <a:br>
              <a:rPr sz="1400"/>
            </a:b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</a:t>
            </a:r>
            <a:br>
              <a:rPr sz="1300"/>
            </a:b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запритесь в ванной или другом недоступном для «дебошира» помещении с телефоном и попытайтесь вызвать полицию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позвоните друзьям или соседям и попросите их прийти на помощь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громко зовите: «На помощь», кричите «Пожар» и т.п.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откройте окна и попытайтесь привлечь внимание прохожих, взывая их о помощи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если Вам все-таки удалось выскочить на лестничную площадку, то звоните во все двери, кричите, зовите на помощь. Даже если никто не выйдет, это может, по крайней мере, остудить нападающего, а у Вас будут свидетели происшествия в случае, если Вы в дальнейшем обратитесь в полицию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23" descr=""/>
          <p:cNvPicPr/>
          <p:nvPr/>
        </p:nvPicPr>
        <p:blipFill>
          <a:blip r:embed="rId3"/>
          <a:stretch/>
        </p:blipFill>
        <p:spPr>
          <a:xfrm>
            <a:off x="200160" y="120600"/>
            <a:ext cx="25923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297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НАСИЛИЕ В СЕМЬЕ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- явление достаточно распространенное. Причинами его проявления могут быть ревность, непрощение обиды, пьянство, алкоголизм, патология личности одного или обоих супругов и др. Подвергаться насилию может любой человек, но в семье чаще всего от насилия страдают женщины и дети. Зачастую женщина, живущая в ситуации насилия, даже и не догадывается, что происходящее с ней является насилием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ДОМАШНЕЕ НАСИЛИЕ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- это повторяющийся с увеличением частоты цикл физического, словесного, эмоционального, духовного оскорбления с целью контроля, запугивания, страх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СУЩЕСТВУЮТ РАЗЛИЧНЫЕ ВИДЫ ДОМАШНЕГО НАСИЛИЯ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1.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ФИЗИЧЕСКОЕ НАСИЛИЕ - причинение боли посредством пощечин, пинков и ударов кулаком. В роли насильника выступает, как правило, мужчина. Он избивает свою жертву, толкает, угрожает оружием, физически препятствует попытке выйти из дома. Снаружи закрывает дверь в помещении, не дает заснуть ночью. Портит имущество, швыряет предметы, избивает детей. Угрожает причинить вред другим родственникам или друзьям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4520" y="188640"/>
            <a:ext cx="3081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ЕСЛИ ЕСТЬ УГРОЗА ЖИЗНИ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договоритесь со своими соседями, чтобы они вызвали полицию, если услышат шум и крики из вашей квартиры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приготовьте деньги, документы, одежду где-нибудь вне дома (у родственников, друзей)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заранее договоритесь с друзьями о предоставлении временного убежища;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держите документы, ключи, деньги в доступном месте для того, чтобы, взяв их, можно было быстро покинуть квартиру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сделайте всё возможное, чтобы обидчик не нашел Вас. Спрячьте или уничтожьте все свои записные книжки, конверты с адресами, которые могли бы помочь ему найти Вас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если ситуация критическая, то необходимо покинуть дом незамедлительно, даже если Вам не удалось взять необходимые вещи.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ПОМНИТЕ, ПОД УГРОЗОЙ ВАША ЖИЗНЬ!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224160" y="0"/>
            <a:ext cx="34578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2.</a:t>
            </a: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 СЕКСУАЛЬНОЕ НАСИЛИЕ - совершение сексуальных действий против воли партнера, а также принуждение партнера к неприемлемым для него приемам, способам сексуальных отношений. Изнасилование. Заставляет раздеваться против воли женщины, совершает половые сношения с особой жестокостью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8" descr="2-seksualnoe-nasilie"/>
          <p:cNvPicPr/>
          <p:nvPr/>
        </p:nvPicPr>
        <p:blipFill>
          <a:blip r:embed="rId1"/>
          <a:stretch/>
        </p:blipFill>
        <p:spPr>
          <a:xfrm>
            <a:off x="3657600" y="1628640"/>
            <a:ext cx="2967120" cy="1729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9"/>
          <p:cNvSpPr/>
          <p:nvPr/>
        </p:nvSpPr>
        <p:spPr>
          <a:xfrm>
            <a:off x="3224160" y="3429000"/>
            <a:ext cx="3511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cc00"/>
                </a:solidFill>
                <a:latin typeface="Garamond"/>
              </a:rPr>
              <a:t>3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ЭМОЦИОНАЛЬНОЕ НАСИЛИЕ -оскорбления, крики, грубость, нецензурная брань. Постоянно критикует, кричит или обижает (например, говоря, что женщина слишком толстая, тощая, глупая;. очень плохая мать, любовница). Поднимает на смех ее убеждения. Манипулирует ею, используя при этом ложь и несогласие. Препятствует ей поддерживать отношения с родственниками и друзьями. Унижает ее на публике, угрожает уйти или выгнать из дома. Угрожает похитить детей, наказывает их, не допускает женщину к детям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Garamond"/>
              </a:rPr>
              <a:t>«СЕМЕЙНЫЕ ДЕБОШИРЫ» ПОДЛЕЖАТ ПРИВЛЕЧЕНИЮ К УГОЛОВНОЙ ИЛИ АДМИНИСТРАТИВНОЙ ОТВЕТСТВЕННОСТИ!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6:08:35Z</dcterms:created>
  <dc:creator>Администратор</dc:creator>
  <dc:description/>
  <dc:language>en-US</dc:language>
  <cp:lastModifiedBy>Admin</cp:lastModifiedBy>
  <dcterms:modified xsi:type="dcterms:W3CDTF">2017-01-18T14:02:17Z</dcterms:modified>
  <cp:revision>25</cp:revision>
  <dc:subject/>
  <dc:title>Насилие в семье</dc:title>
</cp:coreProperties>
</file>