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ECD-56A2-4874-91C5-F6B17C70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31C-ADB9-43B5-999B-F075379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E12-E614-4B2C-B56D-4ACD81AF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068-6967-4E8F-B86A-8CFAB2DA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DA9-F9D5-4C19-85B4-E0680CB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119-034C-4BCC-89D8-CC13681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B27-DC45-4A23-913F-FEC9F66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99C-CAE2-4BE7-81A5-AA6038C3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94C-36EC-4325-9526-1DBA89F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1A2-9632-46BB-A6D1-B5BA52C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C9E-1740-4455-A228-97DF8FB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3C1-23EB-4831-92B3-883D0CB3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>
              <a:gd name="textAreaLeft" fmla="*/ 0 w 9148680"/>
              <a:gd name="textAreaRight" fmla="*/ 9149040 w 91486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933B-3CBB-497B-BF16-A98DF5AA042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>
                <a:gd name="textAreaLeft" fmla="*/ 0 w 9151920"/>
                <a:gd name="textAreaRight" fmla="*/ 9151920 w 9151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01040" cy="150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сновны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 сфере правовой статистик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а территории Красноярского кр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стояние законности в сфере соблюдения прав несовершеннолетн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Содержимое 5" descr=""/>
          <p:cNvPicPr/>
          <p:nvPr/>
        </p:nvPicPr>
        <p:blipFill>
          <a:blip r:embed="rId1"/>
          <a:stretch/>
        </p:blipFill>
        <p:spPr>
          <a:xfrm>
            <a:off x="-50760" y="1292400"/>
            <a:ext cx="92455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3"/>
          <p:cNvSpPr/>
          <p:nvPr/>
        </p:nvSpPr>
        <p:spPr>
          <a:xfrm>
            <a:off x="1071720" y="5000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ЗАРЕГИСТРИРОВАНО ПРЕСТУПЛЕНИЙ НА ТЕРРИТОРИ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ЯРСКОГО КРАЯ ЗА 2019 ГОД –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5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7" name="Диаграмма 26" descr=""/>
          <p:cNvPicPr/>
          <p:nvPr/>
        </p:nvPicPr>
        <p:blipFill>
          <a:blip r:embed="rId1"/>
          <a:stretch/>
        </p:blipFill>
        <p:spPr>
          <a:xfrm>
            <a:off x="-50760" y="1163520"/>
            <a:ext cx="924552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1071720" y="57168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ЕЛЬНЫЙ ВЕС КАТЕГОРИЙ ЛИЦ СОВЕРШИВШ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СТУПЛЕНИЯ ОТ ЧИСЛА РАССЛЕДОВАННЫХ  ПО ДАННЫМ ИЦ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 МВД РОССИИ ПО КРАЮ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9" name="Диаграмма 9" descr=""/>
          <p:cNvPicPr/>
          <p:nvPr/>
        </p:nvPicPr>
        <p:blipFill>
          <a:blip r:embed="rId1"/>
          <a:stretch/>
        </p:blipFill>
        <p:spPr>
          <a:xfrm>
            <a:off x="-50760" y="1163520"/>
            <a:ext cx="924552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5"/>
          <p:cNvSpPr/>
          <p:nvPr/>
        </p:nvSpPr>
        <p:spPr>
          <a:xfrm>
            <a:off x="1000080" y="571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ЖЕНЩИН И НЕСОВЕРШЕННОЛЕТНИХ СОВЕРШИВШИХ ПРЕСТУПЛ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1" name="Диаграмма 2" descr=""/>
          <p:cNvPicPr/>
          <p:nvPr/>
        </p:nvPicPr>
        <p:blipFill>
          <a:blip r:embed="rId1"/>
          <a:stretch/>
        </p:blipFill>
        <p:spPr>
          <a:xfrm>
            <a:off x="-50760" y="1163520"/>
            <a:ext cx="924552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928800" y="5716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Е КОЛИЧЕСТВО ПРЕСТУПЛЕНИЙ, СОВЕРШЕННЫХ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СТРАННЫМИ ГРАЖДАНАМИ И ЛИЦАМИ БЕЗ ГРАЖДАНСТВА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3" name="Диаграмма 2" descr=""/>
          <p:cNvPicPr/>
          <p:nvPr/>
        </p:nvPicPr>
        <p:blipFill>
          <a:blip r:embed="rId1"/>
          <a:stretch/>
        </p:blipFill>
        <p:spPr>
          <a:xfrm>
            <a:off x="-50760" y="1235160"/>
            <a:ext cx="92455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, СОБЛЮДЕНИЕМ ПРАВ И СВОБОД ЧЕЛОВЕКА И ГРАЖДАНИНА ЧАСТЬ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87760" y="2367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Выявлено наруш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71840" y="3068640"/>
            <a:ext cx="37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Принесено протес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357280" y="37861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Направлено иск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00200" y="451008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Внесено представл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43080" y="520236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797"/>
                </a:solidFill>
                <a:latin typeface="Arial"/>
              </a:rPr>
              <a:t>Привлечено к дисц. ответствен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1" name="AutoShape 15" descr=""/>
          <p:cNvPicPr/>
          <p:nvPr/>
        </p:nvPicPr>
        <p:blipFill>
          <a:blip r:embed="rId1"/>
          <a:stretch/>
        </p:blipFill>
        <p:spPr>
          <a:xfrm>
            <a:off x="858960" y="2163600"/>
            <a:ext cx="1353960" cy="744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5"/>
          <p:cNvSpPr/>
          <p:nvPr/>
        </p:nvSpPr>
        <p:spPr>
          <a:xfrm>
            <a:off x="928800" y="29289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4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928800" y="36813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50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214200" y="1285920"/>
            <a:ext cx="271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8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928800" y="43959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6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928800" y="51055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31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8" name="AutoShape 15" descr=""/>
          <p:cNvPicPr/>
          <p:nvPr/>
        </p:nvPicPr>
        <p:blipFill>
          <a:blip r:embed="rId2"/>
          <a:stretch/>
        </p:blipFill>
        <p:spPr>
          <a:xfrm>
            <a:off x="6791400" y="2236680"/>
            <a:ext cx="1346040" cy="7444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/>
          <p:cNvSpPr/>
          <p:nvPr/>
        </p:nvSpPr>
        <p:spPr>
          <a:xfrm>
            <a:off x="6858000" y="30002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93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6858000" y="37530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64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6143760" y="1357200"/>
            <a:ext cx="27144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6858000" y="4467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36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6858000" y="51768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67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, СОБЛЮДЕНИЕМ ПРАВ И СВОБОД ЧЕЛОВЕКА И ГРАЖДАНИНА ЧАСТЬ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665440" y="2152800"/>
            <a:ext cx="359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о удовлетворенным протестам отменено и изменено незаконных правовых ак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35120" y="2787480"/>
            <a:ext cx="38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Удовлетворено исков и прекращено дел ввиду добровольного удовлетворения требований прокуро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611440" y="3610080"/>
            <a:ext cx="370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о постановлению прокурора привлечено лиц к административной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57280" y="4245120"/>
            <a:ext cx="421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Предостережено лиц о недопустимости нарушения закон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14600" y="4881600"/>
            <a:ext cx="39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Направлено материалов для решения вопроса об уголовном преследовании в порядке п. 2 ч. 2 ст. 37 УПК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43080" y="570240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797"/>
                </a:solidFill>
                <a:latin typeface="Arial"/>
              </a:rPr>
              <a:t>Возбуждено уголовных де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2" name="AutoShape 15" descr=""/>
          <p:cNvPicPr/>
          <p:nvPr/>
        </p:nvPicPr>
        <p:blipFill>
          <a:blip r:embed="rId1"/>
          <a:stretch/>
        </p:blipFill>
        <p:spPr>
          <a:xfrm>
            <a:off x="858960" y="1951200"/>
            <a:ext cx="1353960" cy="742680"/>
          </a:xfrm>
          <a:prstGeom prst="rect">
            <a:avLst/>
          </a:prstGeom>
          <a:ln w="0">
            <a:noFill/>
          </a:ln>
        </p:spPr>
      </p:pic>
      <p:pic>
        <p:nvPicPr>
          <p:cNvPr id="123" name="AutoShape 15" descr=""/>
          <p:cNvPicPr/>
          <p:nvPr/>
        </p:nvPicPr>
        <p:blipFill>
          <a:blip r:embed="rId2"/>
          <a:stretch/>
        </p:blipFill>
        <p:spPr>
          <a:xfrm>
            <a:off x="858960" y="2670120"/>
            <a:ext cx="135396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5"/>
          <p:cNvSpPr/>
          <p:nvPr/>
        </p:nvSpPr>
        <p:spPr>
          <a:xfrm>
            <a:off x="928800" y="344160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928800" y="41641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8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928800" y="4884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2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928800" y="56055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AutoShape 15" descr=""/>
          <p:cNvPicPr/>
          <p:nvPr/>
        </p:nvPicPr>
        <p:blipFill>
          <a:blip r:embed="rId3"/>
          <a:stretch/>
        </p:blipFill>
        <p:spPr>
          <a:xfrm>
            <a:off x="6791400" y="2023920"/>
            <a:ext cx="1346040" cy="7430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5"/>
          <p:cNvSpPr/>
          <p:nvPr/>
        </p:nvSpPr>
        <p:spPr>
          <a:xfrm>
            <a:off x="6858000" y="27925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90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6858000" y="3513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11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6858000" y="42354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4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6858000" y="495612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0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6858000" y="56768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9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 НА ДОСУДЕБНОЙ СТАДИИ УГОЛОВНОГО СУДОПРОИЗВОДСТВА ЧАСТЬ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665440" y="23353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Выявлено наруш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611440" y="3000240"/>
            <a:ext cx="37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Направлено требований об устранении нарушений законодательства в порядке п.3 ч.2 ст. 37 УПК РФ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57280" y="400068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Внесено представлений и информаций об устранении наруш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143080" y="497664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Привлечено к дисциплинарной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ветствен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3" name="AutoShape 15" descr=""/>
          <p:cNvPicPr/>
          <p:nvPr/>
        </p:nvPicPr>
        <p:blipFill>
          <a:blip r:embed="rId1"/>
          <a:stretch/>
        </p:blipFill>
        <p:spPr>
          <a:xfrm>
            <a:off x="858960" y="2017800"/>
            <a:ext cx="135396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AutoShape 15" descr=""/>
          <p:cNvPicPr/>
          <p:nvPr/>
        </p:nvPicPr>
        <p:blipFill>
          <a:blip r:embed="rId2"/>
          <a:stretch/>
        </p:blipFill>
        <p:spPr>
          <a:xfrm>
            <a:off x="858960" y="2951280"/>
            <a:ext cx="1353960" cy="7426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5"/>
          <p:cNvSpPr/>
          <p:nvPr/>
        </p:nvSpPr>
        <p:spPr>
          <a:xfrm>
            <a:off x="928800" y="39276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928800" y="4857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87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8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AutoShape 15" descr=""/>
          <p:cNvPicPr/>
          <p:nvPr/>
        </p:nvPicPr>
        <p:blipFill>
          <a:blip r:embed="rId3"/>
          <a:stretch/>
        </p:blipFill>
        <p:spPr>
          <a:xfrm>
            <a:off x="6791400" y="2023920"/>
            <a:ext cx="1346040" cy="7430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6858000" y="3000240"/>
            <a:ext cx="1214280" cy="60984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98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6858000" y="39290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1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858000" y="48578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ЗОР ЗА ИСПОЛНЕНИЕМ ЗАКОНОВ НА ДОСУДЕБНОЙ СТАДИИ УГОЛОВНОГО СУДОПРОИЗВОДСТВА ЧАСТЬ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665440" y="2262240"/>
            <a:ext cx="359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остановлений следователей и дознавателей о возбужд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611440" y="3286080"/>
            <a:ext cx="37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б отказе в возбужд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357280" y="4476600"/>
            <a:ext cx="42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 прекращении уголовного дел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43080" y="550080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797"/>
                </a:solidFill>
                <a:latin typeface="Arial"/>
              </a:rPr>
              <a:t>Отменено прокурором и по его инициативе постановлений о приостановлении предварительного рассле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0" name="AutoShape 15" descr=""/>
          <p:cNvPicPr/>
          <p:nvPr/>
        </p:nvPicPr>
        <p:blipFill>
          <a:blip r:embed="rId1"/>
          <a:stretch/>
        </p:blipFill>
        <p:spPr>
          <a:xfrm>
            <a:off x="858960" y="2163600"/>
            <a:ext cx="1353960" cy="744840"/>
          </a:xfrm>
          <a:prstGeom prst="rect">
            <a:avLst/>
          </a:prstGeom>
          <a:ln w="0">
            <a:noFill/>
          </a:ln>
        </p:spPr>
      </p:pic>
      <p:pic>
        <p:nvPicPr>
          <p:cNvPr id="161" name="AutoShape 15" descr=""/>
          <p:cNvPicPr/>
          <p:nvPr/>
        </p:nvPicPr>
        <p:blipFill>
          <a:blip r:embed="rId2"/>
          <a:stretch/>
        </p:blipFill>
        <p:spPr>
          <a:xfrm>
            <a:off x="858960" y="3255840"/>
            <a:ext cx="135396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5"/>
          <p:cNvSpPr/>
          <p:nvPr/>
        </p:nvSpPr>
        <p:spPr>
          <a:xfrm>
            <a:off x="928800" y="440388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1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28800" y="550080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1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14200" y="1214280"/>
            <a:ext cx="271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8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800000">
            <a:off x="6610320" y="2071800"/>
            <a:ext cx="53352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6" name="AutoShape 15" descr=""/>
          <p:cNvPicPr/>
          <p:nvPr/>
        </p:nvPicPr>
        <p:blipFill>
          <a:blip r:embed="rId3"/>
          <a:stretch/>
        </p:blipFill>
        <p:spPr>
          <a:xfrm>
            <a:off x="6791400" y="2230560"/>
            <a:ext cx="1346040" cy="7444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5"/>
          <p:cNvSpPr/>
          <p:nvPr/>
        </p:nvSpPr>
        <p:spPr>
          <a:xfrm>
            <a:off x="6858000" y="337824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827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858000" y="447516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7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6858000" y="5572080"/>
            <a:ext cx="1214280" cy="609480"/>
          </a:xfrm>
          <a:prstGeom prst="can">
            <a:avLst>
              <a:gd name="adj" fmla="val 27865"/>
            </a:avLst>
          </a:prstGeom>
          <a:solidFill>
            <a:srgbClr val="25b1b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99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6143760" y="1285920"/>
            <a:ext cx="27144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81bd"/>
              </a:gs>
              <a:gs pos="100000">
                <a:srgbClr val="40abfb"/>
              </a:gs>
            </a:gsLst>
            <a:lin ang="16200000"/>
          </a:gradFill>
          <a:ln w="9360">
            <a:solidFill>
              <a:srgbClr val="55a9e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6T03:58:44Z</dcterms:created>
  <dc:creator>ws_635</dc:creator>
  <dc:description>http://propowerpoint.ru - Áåñïëàòíûå øàáëîíû äëÿ ïðåçåíòàöèé. Ïîëåçíûå ñîâåòû è óðîêè PowerPoint .</dc:description>
  <dc:language>en-US</dc:language>
  <cp:lastModifiedBy>ws_635</cp:lastModifiedBy>
  <dcterms:modified xsi:type="dcterms:W3CDTF">2020-02-10T10:34:46Z</dcterms:modified>
  <cp:revision>113</cp:revision>
  <dc:subject/>
  <dc:title>Статистические показатели Прокуратуры Красноя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a0000000000010243100207f9000400038000</vt:lpwstr>
  </property>
</Properties>
</file>