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1d528d"/>
                </a:solidFill>
                <a:latin typeface="Arial"/>
              </a:defRPr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з них:</a:t>
            </a:r>
          </a:p>
        </c:rich>
      </c:tx>
      <c:layout>
        <c:manualLayout>
          <c:xMode val="edge"/>
          <c:yMode val="edge"/>
          <c:x val="0.663582677165354"/>
          <c:y val="0.101231102889583"/>
        </c:manualLayout>
      </c:layout>
      <c:overlay val="0"/>
      <c:spPr>
        <a:noFill/>
        <a:ln w="0">
          <a:noFill/>
        </a:ln>
      </c:spPr>
    </c:title>
    <c:autoTitleDeleted val="0"/>
    <c:view3D>
      <c:rotX val="5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gradFill>
              <a:gsLst>
                <a:gs pos="0">
                  <a:srgbClr val="2f75ab"/>
                </a:gs>
                <a:gs pos="100000">
                  <a:srgbClr val="3c99df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4942c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99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4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6"/>
            <c:spPr>
              <a:solidFill>
                <a:srgbClr val="ff00ff"/>
              </a:solidFill>
              <a:ln w="0">
                <a:noFill/>
              </a:ln>
            </c:spPr>
          </c:dPt>
          <c:dPt>
            <c:idx val="7"/>
            <c:spPr>
              <a:solidFill>
                <a:srgbClr val="00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6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7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0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8"/>
                <c:pt idx="0">
                  <c:v>Тяжкие и особо тяжкие</c:v>
                </c:pt>
                <c:pt idx="1">
                  <c:v>Умышленные убийства</c:v>
                </c:pt>
                <c:pt idx="2">
                  <c:v>Умышленное прич. тяжк. вреда здоровью</c:v>
                </c:pt>
                <c:pt idx="3">
                  <c:v>Преступления связанные с накротиками</c:v>
                </c:pt>
                <c:pt idx="4">
                  <c:v>Кражи </c:v>
                </c:pt>
                <c:pt idx="5">
                  <c:v>Грабежи </c:v>
                </c:pt>
                <c:pt idx="6">
                  <c:v>Экономические преступления</c:v>
                </c:pt>
                <c:pt idx="7">
                  <c:v>Иные престулп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6636</c:v>
                </c:pt>
                <c:pt idx="1">
                  <c:v>194</c:v>
                </c:pt>
                <c:pt idx="2">
                  <c:v>515</c:v>
                </c:pt>
                <c:pt idx="3">
                  <c:v>3184</c:v>
                </c:pt>
                <c:pt idx="4">
                  <c:v>13963</c:v>
                </c:pt>
                <c:pt idx="5">
                  <c:v>878</c:v>
                </c:pt>
                <c:pt idx="6">
                  <c:v>1041</c:v>
                </c:pt>
                <c:pt idx="7">
                  <c:v>438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6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35984251968504"/>
          <c:y val="0.0247496332206417"/>
          <c:w val="0.570708661417323"/>
          <c:h val="0.868980034445366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5</c:v>
                </c:pt>
              </c:strCache>
            </c:strRef>
          </c:tx>
          <c:spPr>
            <a:gradFill>
              <a:gsLst>
                <a:gs pos="0">
                  <a:srgbClr val="b9b9ba"/>
                </a:gs>
                <a:gs pos="100000">
                  <a:srgbClr val="f1f1f2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Несовершенолетними</c:v>
                </c:pt>
                <c:pt idx="1">
                  <c:v>Лицами, не имеющими постоянного дохода</c:v>
                </c:pt>
                <c:pt idx="2">
                  <c:v>Ранее совершавшими преступления</c:v>
                </c:pt>
                <c:pt idx="3">
                  <c:v>В состоянии алкогольного опьянения</c:v>
                </c:pt>
                <c:pt idx="4">
                  <c:v>В групп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0640000000000001</c:v>
                </c:pt>
                <c:pt idx="1">
                  <c:v>0.626</c:v>
                </c:pt>
                <c:pt idx="2">
                  <c:v>0.588</c:v>
                </c:pt>
                <c:pt idx="3">
                  <c:v>0.359</c:v>
                </c:pt>
                <c:pt idx="4">
                  <c:v>0.13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gradFill>
              <a:gsLst>
                <a:gs pos="0">
                  <a:srgbClr val="063264"/>
                </a:gs>
                <a:gs pos="100000">
                  <a:srgbClr val="084182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Несовершенолетними</c:v>
                </c:pt>
                <c:pt idx="1">
                  <c:v>Лицами, не имеющими постоянного дохода</c:v>
                </c:pt>
                <c:pt idx="2">
                  <c:v>Ранее совершавшими преступления</c:v>
                </c:pt>
                <c:pt idx="3">
                  <c:v>В состоянии алкогольного опьянения</c:v>
                </c:pt>
                <c:pt idx="4">
                  <c:v>В группе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056</c:v>
                </c:pt>
                <c:pt idx="1">
                  <c:v>0.603</c:v>
                </c:pt>
                <c:pt idx="2">
                  <c:v>0.602</c:v>
                </c:pt>
                <c:pt idx="3">
                  <c:v>0.426</c:v>
                </c:pt>
                <c:pt idx="4">
                  <c:v>0.129</c:v>
                </c:pt>
              </c:numCache>
            </c:numRef>
          </c:val>
        </c:ser>
        <c:gapWidth val="150"/>
        <c:overlap val="0"/>
        <c:axId val="1691078"/>
        <c:axId val="95270694"/>
      </c:barChart>
      <c:catAx>
        <c:axId val="1691078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95270694"/>
        <c:crosses val="autoZero"/>
        <c:auto val="1"/>
        <c:lblAlgn val="ctr"/>
        <c:lblOffset val="100"/>
        <c:noMultiLvlLbl val="0"/>
      </c:catAx>
      <c:valAx>
        <c:axId val="95270694"/>
        <c:scaling>
          <c:orientation val="minMax"/>
        </c:scaling>
        <c:delete val="0"/>
        <c:axPos val="l"/>
        <c:majorGridlines>
          <c:spPr>
            <a:ln w="9360">
              <a:solidFill>
                <a:srgbClr val="25b1b1">
                  <a:alpha val="11000"/>
                </a:srgbClr>
              </a:solidFill>
              <a:round/>
            </a:ln>
          </c:spPr>
        </c:majorGridlines>
        <c:numFmt formatCode="0.0%" sourceLinked="0"/>
        <c:majorTickMark val="out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1691078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50876312335958"/>
          <c:y val="0.0523862698451232"/>
          <c:w val="0.235234798775153"/>
          <c:h val="0.11660793914782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5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сего</c:v>
                </c:pt>
                <c:pt idx="1">
                  <c:v>Женщинами</c:v>
                </c:pt>
                <c:pt idx="2">
                  <c:v>Несовершеннолетним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4005</c:v>
                </c:pt>
                <c:pt idx="1">
                  <c:v>2430</c:v>
                </c:pt>
                <c:pt idx="2">
                  <c:v>90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62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сего</c:v>
                </c:pt>
                <c:pt idx="1">
                  <c:v>Женщинами</c:v>
                </c:pt>
                <c:pt idx="2">
                  <c:v>Несовершеннолетним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5323</c:v>
                </c:pt>
                <c:pt idx="1">
                  <c:v>2649</c:v>
                </c:pt>
                <c:pt idx="2">
                  <c:v>865</c:v>
                </c:pt>
              </c:numCache>
            </c:numRef>
          </c:val>
        </c:ser>
        <c:gapWidth val="75"/>
        <c:overlap val="0"/>
        <c:axId val="96782395"/>
        <c:axId val="30974208"/>
      </c:barChart>
      <c:catAx>
        <c:axId val="96782395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30974208"/>
        <c:crosses val="autoZero"/>
        <c:auto val="1"/>
        <c:lblAlgn val="ctr"/>
        <c:lblOffset val="100"/>
        <c:noMultiLvlLbl val="0"/>
      </c:catAx>
      <c:valAx>
        <c:axId val="30974208"/>
        <c:scaling>
          <c:orientation val="minMax"/>
        </c:scaling>
        <c:delete val="0"/>
        <c:axPos val="l"/>
        <c:numFmt formatCode="General" sourceLinked="0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96782395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5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Иностранными гражданами и лицами без гражданства</c:v>
                </c:pt>
                <c:pt idx="1">
                  <c:v>Гражданами гос-участ. СН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301</c:v>
                </c:pt>
                <c:pt idx="1">
                  <c:v>2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Иностранными гражданами и лицами без гражданства</c:v>
                </c:pt>
                <c:pt idx="1">
                  <c:v>Гражданами гос-участ. СНГ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43</c:v>
                </c:pt>
                <c:pt idx="1">
                  <c:v>199</c:v>
                </c:pt>
              </c:numCache>
            </c:numRef>
          </c:val>
        </c:ser>
        <c:gapWidth val="150"/>
        <c:overlap val="-25"/>
        <c:axId val="93189498"/>
        <c:axId val="86642911"/>
      </c:barChart>
      <c:catAx>
        <c:axId val="93189498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86642911"/>
        <c:crosses val="autoZero"/>
        <c:auto val="1"/>
        <c:lblAlgn val="ctr"/>
        <c:lblOffset val="100"/>
        <c:noMultiLvlLbl val="0"/>
      </c:catAx>
      <c:valAx>
        <c:axId val="8664291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93189498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924015748031496"/>
          <c:y val="0.039950388406554"/>
          <c:w val="0.892283464566929"/>
          <c:h val="0.73477381030093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5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несено представлений</c:v>
                </c:pt>
                <c:pt idx="1">
                  <c:v>Принесено протестов</c:v>
                </c:pt>
                <c:pt idx="2">
                  <c:v>Выявлено незаконных правовых акт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361</c:v>
                </c:pt>
                <c:pt idx="1">
                  <c:v>628</c:v>
                </c:pt>
                <c:pt idx="2">
                  <c:v>62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6</c:v>
                </c:pt>
              </c:strCache>
            </c:strRef>
          </c:tx>
          <c:spPr>
            <a:gradFill>
              <a:gsLst>
                <a:gs pos="0">
                  <a:srgbClr val="3382bd"/>
                </a:gs>
                <a:gs pos="100000">
                  <a:srgbClr val="43a9f6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несено представлений</c:v>
                </c:pt>
                <c:pt idx="1">
                  <c:v>Принесено протестов</c:v>
                </c:pt>
                <c:pt idx="2">
                  <c:v>Выявлено незаконных правовых акт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340</c:v>
                </c:pt>
                <c:pt idx="1">
                  <c:v>490</c:v>
                </c:pt>
                <c:pt idx="2">
                  <c:v>490</c:v>
                </c:pt>
              </c:numCache>
            </c:numRef>
          </c:val>
        </c:ser>
        <c:gapWidth val="75"/>
        <c:overlap val="0"/>
        <c:axId val="62143400"/>
        <c:axId val="47674707"/>
      </c:barChart>
      <c:catAx>
        <c:axId val="62143400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47674707"/>
        <c:crosses val="autoZero"/>
        <c:auto val="1"/>
        <c:lblAlgn val="ctr"/>
        <c:lblOffset val="100"/>
        <c:noMultiLvlLbl val="0"/>
      </c:catAx>
      <c:valAx>
        <c:axId val="47674707"/>
        <c:scaling>
          <c:orientation val="minMax"/>
        </c:scaling>
        <c:delete val="0"/>
        <c:axPos val="l"/>
        <c:numFmt formatCode="General" sourceLinked="0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62143400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299316613201128"/>
          <c:y val="0.00393350398567295"/>
          <c:w val="0.544563429571303"/>
          <c:h val="0.05966354160018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B7A-E410-4C09-AE81-2699A19B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C22-1743-4E81-AB5B-C424C33B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573-D6A3-4795-A31B-6936412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9E6-E023-4685-9674-08DA27F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C7D-FE8A-471F-80EA-33DE9433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25F-5A05-4EA1-AEC8-71D5B83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71E-12F8-4A22-AB76-FC553B4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849-96B3-44AD-9F3A-71CFBB6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389-1D48-4B47-BBA2-71A44E1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569-26B5-458C-8A26-7563BBC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BD1-FF38-4066-AF79-B9015231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404-043C-4B15-9074-FDEC22A6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380-4FAC-49F5-90CF-1866AB78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AB1-9D9A-4ED6-964F-82ED75BA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C885-CBD0-4E95-857C-DED5CB8B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9865-F6BC-448C-B210-D1D8CA13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6E1F-399A-4C5A-8461-1755C6D8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B92-9E87-4427-B428-A7CF6D1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F25-3D3B-4410-8D23-B1E08B8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8712-1E36-4807-AE03-63FB05B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77AD-6637-40D1-AB01-28D9876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8EBA-F6ED-4DEC-A271-619E4A1F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EDA5-2E2B-454A-B5D3-A754A7D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E9F6-F347-4DBE-B954-F1E75741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 hidden="1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" name="Group 17"/>
          <p:cNvGrpSpPr/>
          <p:nvPr/>
        </p:nvGrpSpPr>
        <p:grpSpPr>
          <a:xfrm>
            <a:off x="-9360" y="2708280"/>
            <a:ext cx="9183240" cy="1501560"/>
            <a:chOff x="-9360" y="2708280"/>
            <a:chExt cx="9183240" cy="1501560"/>
          </a:xfrm>
        </p:grpSpPr>
        <p:sp>
          <p:nvSpPr>
            <p:cNvPr id="3" name="Freeform 18"/>
            <p:cNvSpPr/>
            <p:nvPr/>
          </p:nvSpPr>
          <p:spPr>
            <a:xfrm>
              <a:off x="-4680" y="2708280"/>
              <a:ext cx="9151560" cy="1501560"/>
            </a:xfrm>
            <a:custGeom>
              <a:avLst/>
              <a:gdLst>
                <a:gd name="textAreaLeft" fmla="*/ 0 w 9151560"/>
                <a:gd name="textAreaRight" fmla="*/ 9151920 w 915156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  <a:effectLst>
              <a:outerShdw algn="ctr" dir="4837521" dist="77353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Freeform 19"/>
            <p:cNvSpPr/>
            <p:nvPr/>
          </p:nvSpPr>
          <p:spPr>
            <a:xfrm>
              <a:off x="-9360" y="2747880"/>
              <a:ext cx="9183240" cy="1420560"/>
            </a:xfrm>
            <a:custGeom>
              <a:avLst/>
              <a:gdLst>
                <a:gd name="textAreaLeft" fmla="*/ 0 w 9183240"/>
                <a:gd name="textAreaRight" fmla="*/ 9183600 w 918324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" name="Text Box 14"/>
          <p:cNvSpPr/>
          <p:nvPr/>
        </p:nvSpPr>
        <p:spPr>
          <a:xfrm>
            <a:off x="304920" y="228600"/>
            <a:ext cx="10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080" cy="791640"/>
          </a:xfrm>
          <a:prstGeom prst="rect">
            <a:avLst/>
          </a:prstGeom>
          <a:noFill/>
          <a:ln w="936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1d528d"/>
                </a:solidFill>
                <a:latin typeface="Verdana"/>
              </a:rPr>
              <a:t>Образец заголовка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6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010280" y="28908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5791320" y="6537240"/>
            <a:ext cx="289512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672000" y="653724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61DFBF-EDC1-4AAC-B77C-1D42C2E3F317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6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e71f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1d528d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5b1b1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d528d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d528d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d528d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7010280" y="28908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5791320" y="6537240"/>
            <a:ext cx="289512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3672000" y="653724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23740D-368F-489B-A769-EECD7FC9AB02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00680" cy="1499760"/>
          </a:xfrm>
          <a:prstGeom prst="rect">
            <a:avLst/>
          </a:prstGeom>
          <a:solidFill>
            <a:srgbClr val="ffffff"/>
          </a:solidFill>
          <a:ln w="936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сновные показател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 сфере правовой статистик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а территории Красноярского кра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стояние законности в сфере соблюдения прав несовершеннолетних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0" name="Содержимое 5"/>
          <p:cNvGraphicFramePr/>
          <p:nvPr/>
        </p:nvGraphicFramePr>
        <p:xfrm>
          <a:off x="0" y="1343160"/>
          <a:ext cx="9143640" cy="5514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3"/>
          <p:cNvSpPr/>
          <p:nvPr/>
        </p:nvSpPr>
        <p:spPr>
          <a:xfrm>
            <a:off x="1071360" y="500040"/>
            <a:ext cx="792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ГО ЗАРЕГИСТРИРОВАНО ПРЕСТУПЛЕНИЙ НА ТЕРРИ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АСНОЯРСКОГО КРАЯ ЗА 1 ПОЛУГОДИЕ 2016 ГОДА – 322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Диаграмма 26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71360" y="571320"/>
            <a:ext cx="8072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ДЕЛЬНЫЙ ВЕС КАТЕГОРИЙ ЛИЦ СОВЕРШИВШИ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СТУПЛЕНИЯ ОТ ЧИСЛА РАССЛЕДОВАННЫХ  ПО ДАННЫМ ИЦ ГУ МВД РОССИИ ПО КР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Диаграмма 9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1000080" y="571320"/>
            <a:ext cx="814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ЛИЧЕСТВО ПРЕСТУПЛЕНИЙ, СОВЕРШ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ЕНЩИНАМИ И НЕСОВЕРШЕННОЛЕТ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Диаграмма 2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5"/>
          <p:cNvSpPr/>
          <p:nvPr/>
        </p:nvSpPr>
        <p:spPr>
          <a:xfrm>
            <a:off x="928800" y="571320"/>
            <a:ext cx="82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ЩЕЕ КОЛИЧЕСТВО ПРЕСТУПЛЕНИЙ, СОВЕРШ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ОСТРАННЫМИ ГРАЖДАНАМИ И ЛИЦАМИ БЕЗ ГРАЖД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Диаграмма 2"/>
          <p:cNvGraphicFramePr/>
          <p:nvPr/>
        </p:nvGraphicFramePr>
        <p:xfrm>
          <a:off x="0" y="1285920"/>
          <a:ext cx="9143640" cy="55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, СОБЛЮДЕНИЕМ ПРАВ И СВОБОД ЧЕЛОВЕКА И ГРАЖДАНИНА ЧАСТЬ 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687400" y="2151720"/>
            <a:ext cx="359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71840" y="2854080"/>
            <a:ext cx="385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езаконных 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571840" y="3568320"/>
            <a:ext cx="37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несено проте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357280" y="4286160"/>
            <a:ext cx="4214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0200" y="5009400"/>
            <a:ext cx="3898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несено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143080" y="5702760"/>
            <a:ext cx="464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влечено к дисц.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928800" y="2000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84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928800" y="26812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6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928800" y="34290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63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928800" y="41814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3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5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928800" y="48960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9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928800" y="56055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3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884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6858000" y="27525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6858000" y="35002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6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6858000" y="42530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0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6858000" y="49672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0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6858000" y="5676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8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, СОБЛЮДЕНИЕМ ПРАВ И СВОБОД ЧЕЛОВЕКА И ГРАЖДАНИНА ЧАСТЬ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665440" y="2151720"/>
            <a:ext cx="359856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о удовлетворенным протестам отменено и изменено незаконных правовых 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535840" y="2788200"/>
            <a:ext cx="3857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Удовлетворено исков и прекращено дел ввиду добровольного удовлетворения требований прокур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611080" y="3609360"/>
            <a:ext cx="37069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о постановлению прокурора привлечено лиц к административной ответ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357280" y="4245480"/>
            <a:ext cx="4214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едостережено лиц о недопустимости нарушения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515320" y="4881960"/>
            <a:ext cx="3898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материалов для решения вопроса об уголовном преследовании в порядке п. 2 ч. 2 ст. 37 УПК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143080" y="5702760"/>
            <a:ext cx="4643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озбуждено уголовн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928800" y="2000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0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928800" y="2721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1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928800" y="34423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928800" y="41634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6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5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928800" y="48844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928800" y="56055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6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6858000" y="27928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858000" y="3513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6858000" y="42346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6858000" y="49557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6858000" y="5676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 НА ДОСУДЕБНОЙ СТАДИИ УГОЛОВНОГО СУДОПРОИЗВОДСТВА ЧАСТЬ 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665440" y="2335320"/>
            <a:ext cx="35985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611080" y="3000240"/>
            <a:ext cx="3706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требований об устранении нарушений законодательства в порядке п.3 ч.2 ст. 37 УПК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357280" y="4000680"/>
            <a:ext cx="42145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несено представлений и информаций об устранении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143080" y="4977360"/>
            <a:ext cx="4643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влечено к дисциплинар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5"/>
          <p:cNvSpPr/>
          <p:nvPr/>
        </p:nvSpPr>
        <p:spPr>
          <a:xfrm>
            <a:off x="928800" y="20667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6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928800" y="29973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928800" y="3927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928800" y="4857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5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587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858000" y="3000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6858000" y="39290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858000" y="4857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 НА ДОСУДЕБНОЙ СТАДИИ УГОЛОВНОГО СУДОПРОИЗВОДСТВА ЧАСТЬ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665440" y="2261880"/>
            <a:ext cx="359856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остановлений следователей и дознавателей о возбужд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611080" y="3286080"/>
            <a:ext cx="3706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б отказе в возбужд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357280" y="4476240"/>
            <a:ext cx="42145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 прекращ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143080" y="5500800"/>
            <a:ext cx="46432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 приостановлении предварительного рассле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928800" y="22096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928800" y="3306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37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928800" y="44038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5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928800" y="5500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5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858000" y="22813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6858000" y="3378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98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6858000" y="4475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6858000" y="55720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полугодие 2016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vetlAbstrl</Template>
  <TotalTime>426</TotalTime>
  <Application>LibreOffice/7.4.7.2$Linux_X86_64 LibreOffice_project/40$Build-2</Application>
  <AppVersion>15.0000</AppVersion>
  <Words>328</Words>
  <Paragraphs>8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6T03:58:44Z</dcterms:created>
  <dc:creator>ws_635</dc:creator>
  <dc:description>http://propowerpoint.ru - Áåñïëàòíûå øàáëîíû äëÿ ïðåçåíòàöèé. Ïîëåçíûå ñîâåòû è óðîêè PowerPoint .</dc:description>
  <dc:language>en-US</dc:language>
  <cp:lastModifiedBy>Скрипко Александра Сергеевна</cp:lastModifiedBy>
  <dcterms:modified xsi:type="dcterms:W3CDTF">2016-08-24T08:06:50Z</dcterms:modified>
  <cp:revision>65</cp:revision>
  <dc:subject/>
  <dc:title>Статистические показатели Прокуратуры Красноя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a0000000000010243100207f9000400038000</vt:lpwstr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