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1d528d"/>
                </a:solidFill>
                <a:latin typeface="Arial"/>
              </a:defRPr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з них:</a:t>
            </a:r>
          </a:p>
        </c:rich>
      </c:tx>
      <c:layout>
        <c:manualLayout>
          <c:xMode val="edge"/>
          <c:yMode val="edge"/>
          <c:x val="0.663582677165354"/>
          <c:y val="0.101231102889583"/>
        </c:manualLayout>
      </c:layout>
      <c:overlay val="0"/>
      <c:spPr>
        <a:noFill/>
        <a:ln w="0">
          <a:noFill/>
        </a:ln>
      </c:spPr>
    </c:title>
    <c:autoTitleDeleted val="0"/>
    <c:view3D>
      <c:rotX val="50"/>
      <c:rotY val="33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481102362204724"/>
          <c:y val="0.116157428079352"/>
          <c:w val="0.522283464566929"/>
          <c:h val="0.7354723480257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2020 год</c:v>
                </c:pt>
              </c:strCache>
            </c:strRef>
          </c:tx>
          <c:spPr>
            <a:gradFill>
              <a:gsLst>
                <a:gs pos="0">
                  <a:srgbClr val="2f75ab"/>
                </a:gs>
                <a:gs pos="100000">
                  <a:srgbClr val="3c99df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4942c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99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4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6"/>
            <c:spPr>
              <a:solidFill>
                <a:srgbClr val="ff00ff"/>
              </a:solidFill>
              <a:ln w="0">
                <a:noFill/>
              </a:ln>
            </c:spPr>
          </c:dPt>
          <c:dPt>
            <c:idx val="7"/>
            <c:spPr>
              <a:solidFill>
                <a:srgbClr val="00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numFmt formatCode="0.0%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numFmt formatCode="0.0%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5"/>
              <c:numFmt formatCode="0.0%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6"/>
              <c:numFmt formatCode="0.0%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7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1d528d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8"/>
                <c:pt idx="0">
                  <c:v>Тяжкие и особо тяжкие</c:v>
                </c:pt>
                <c:pt idx="1">
                  <c:v>Умышленные убийства</c:v>
                </c:pt>
                <c:pt idx="2">
                  <c:v>Умышленное прич. тяжк. вреда здоровью</c:v>
                </c:pt>
                <c:pt idx="3">
                  <c:v>Преступления связанные с накротиками</c:v>
                </c:pt>
                <c:pt idx="4">
                  <c:v>Кражи </c:v>
                </c:pt>
                <c:pt idx="5">
                  <c:v>Грабежи </c:v>
                </c:pt>
                <c:pt idx="6">
                  <c:v>Экономические преступления</c:v>
                </c:pt>
                <c:pt idx="7">
                  <c:v>Иные престулп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3656</c:v>
                </c:pt>
                <c:pt idx="1">
                  <c:v>238</c:v>
                </c:pt>
                <c:pt idx="2">
                  <c:v>725</c:v>
                </c:pt>
                <c:pt idx="3">
                  <c:v>3842</c:v>
                </c:pt>
                <c:pt idx="4">
                  <c:v>20227</c:v>
                </c:pt>
                <c:pt idx="5">
                  <c:v>773</c:v>
                </c:pt>
                <c:pt idx="6">
                  <c:v>1477</c:v>
                </c:pt>
                <c:pt idx="7">
                  <c:v>7214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6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35984251968504"/>
          <c:y val="0.0247496332206417"/>
          <c:w val="0.620196850393701"/>
          <c:h val="0.940996364100274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9 год</c:v>
                </c:pt>
              </c:strCache>
            </c:strRef>
          </c:tx>
          <c:spPr>
            <a:gradFill>
              <a:gsLst>
                <a:gs pos="0">
                  <a:srgbClr val="b9b9ba"/>
                </a:gs>
                <a:gs pos="100000">
                  <a:srgbClr val="f1f1f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043</c:v>
                </c:pt>
                <c:pt idx="1">
                  <c:v>0.601</c:v>
                </c:pt>
                <c:pt idx="2">
                  <c:v>0.671</c:v>
                </c:pt>
                <c:pt idx="3">
                  <c:v>0.344</c:v>
                </c:pt>
                <c:pt idx="4">
                  <c:v>0.08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20 год</c:v>
                </c:pt>
              </c:strCache>
            </c:strRef>
          </c:tx>
          <c:spPr>
            <a:gradFill>
              <a:gsLst>
                <a:gs pos="0">
                  <a:srgbClr val="063264"/>
                </a:gs>
                <a:gs pos="100000">
                  <a:srgbClr val="084182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Несовершенолетними</c:v>
                </c:pt>
                <c:pt idx="1">
                  <c:v>Лицами, не имеющими постоянного дохода</c:v>
                </c:pt>
                <c:pt idx="2">
                  <c:v>Ранее совершавшими преступления</c:v>
                </c:pt>
                <c:pt idx="3">
                  <c:v>В состоянии алкогольного опьянения</c:v>
                </c:pt>
                <c:pt idx="4">
                  <c:v>В группе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04</c:v>
                </c:pt>
                <c:pt idx="1">
                  <c:v>0.605</c:v>
                </c:pt>
                <c:pt idx="2">
                  <c:v>0.687</c:v>
                </c:pt>
                <c:pt idx="3">
                  <c:v>0.342</c:v>
                </c:pt>
                <c:pt idx="4">
                  <c:v>0.071</c:v>
                </c:pt>
              </c:numCache>
            </c:numRef>
          </c:val>
        </c:ser>
        <c:gapWidth val="150"/>
        <c:overlap val="0"/>
        <c:axId val="26212348"/>
        <c:axId val="52896174"/>
      </c:barChart>
      <c:catAx>
        <c:axId val="2621234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52896174"/>
        <c:crosses val="autoZero"/>
        <c:auto val="1"/>
        <c:lblAlgn val="ctr"/>
        <c:lblOffset val="100"/>
        <c:noMultiLvlLbl val="0"/>
      </c:catAx>
      <c:valAx>
        <c:axId val="52896174"/>
        <c:scaling>
          <c:orientation val="minMax"/>
        </c:scaling>
        <c:delete val="0"/>
        <c:axPos val="l"/>
        <c:majorGridlines>
          <c:spPr>
            <a:ln w="9360">
              <a:solidFill>
                <a:srgbClr val="25b1b1">
                  <a:alpha val="11000"/>
                </a:srgbClr>
              </a:solidFill>
              <a:round/>
            </a:ln>
          </c:spPr>
        </c:majorGridlines>
        <c:numFmt formatCode="0.0%" sourceLinked="0"/>
        <c:majorTickMark val="out"/>
        <c:minorTickMark val="none"/>
        <c:tickLblPos val="none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Arial"/>
              </a:defRPr>
            </a:pPr>
          </a:p>
        </c:txPr>
        <c:crossAx val="26212348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09209645669292"/>
          <c:y val="0.0523862698451236"/>
          <c:w val="0.37690146544182"/>
          <c:h val="0.14811277526420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2000" spc="-1" strike="noStrike">
              <a:solidFill>
                <a:srgbClr val="ffffff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152755905511811"/>
          <c:y val="0.0247496332206417"/>
          <c:w val="0.961062992125984"/>
          <c:h val="0.78548191618294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9 год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2111</c:v>
                </c:pt>
                <c:pt idx="1">
                  <c:v>3526</c:v>
                </c:pt>
                <c:pt idx="2">
                  <c:v>108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20 год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сего</c:v>
                </c:pt>
                <c:pt idx="1">
                  <c:v>Женщинами</c:v>
                </c:pt>
                <c:pt idx="2">
                  <c:v>Несовершеннолетними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0784</c:v>
                </c:pt>
                <c:pt idx="1">
                  <c:v>3404</c:v>
                </c:pt>
                <c:pt idx="2">
                  <c:v>929</c:v>
                </c:pt>
              </c:numCache>
            </c:numRef>
          </c:val>
        </c:ser>
        <c:gapWidth val="75"/>
        <c:overlap val="0"/>
        <c:axId val="4401521"/>
        <c:axId val="34661907"/>
      </c:barChart>
      <c:catAx>
        <c:axId val="4401521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34661907"/>
        <c:crosses val="autoZero"/>
        <c:auto val="1"/>
        <c:lblAlgn val="ctr"/>
        <c:lblOffset val="100"/>
        <c:noMultiLvlLbl val="0"/>
      </c:catAx>
      <c:valAx>
        <c:axId val="34661907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one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4401521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20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9 год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11</c:v>
                </c:pt>
                <c:pt idx="1">
                  <c:v>34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20 год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3da2ff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Иностранными гражданами и лицами без гражданства</c:v>
                </c:pt>
                <c:pt idx="1">
                  <c:v>Гражданами гос-участ. СН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99</c:v>
                </c:pt>
                <c:pt idx="1">
                  <c:v>253</c:v>
                </c:pt>
              </c:numCache>
            </c:numRef>
          </c:val>
        </c:ser>
        <c:gapWidth val="150"/>
        <c:overlap val="-25"/>
        <c:axId val="47066742"/>
        <c:axId val="8260133"/>
      </c:barChart>
      <c:catAx>
        <c:axId val="47066742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8260133"/>
        <c:crosses val="autoZero"/>
        <c:auto val="1"/>
        <c:lblAlgn val="ctr"/>
        <c:lblOffset val="100"/>
        <c:noMultiLvlLbl val="0"/>
      </c:catAx>
      <c:valAx>
        <c:axId val="826013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47066742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01574803149606"/>
          <c:y val="0.039950388406554"/>
          <c:w val="0.964527559055118"/>
          <c:h val="0.83380116195574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9 год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20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ыявлено нарушений</c:v>
                </c:pt>
                <c:pt idx="1">
                  <c:v>Внесено представлений</c:v>
                </c:pt>
                <c:pt idx="2">
                  <c:v>Принесено протест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649</c:v>
                </c:pt>
                <c:pt idx="1">
                  <c:v>2991</c:v>
                </c:pt>
                <c:pt idx="2">
                  <c:v>100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20 год</c:v>
                </c:pt>
              </c:strCache>
            </c:strRef>
          </c:tx>
          <c:spPr>
            <a:gradFill>
              <a:gsLst>
                <a:gs pos="0">
                  <a:srgbClr val="3382bd"/>
                </a:gs>
                <a:gs pos="100000">
                  <a:srgbClr val="43a9f6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2000" spc="-1" strike="noStrike">
                    <a:solidFill>
                      <a:srgbClr val="1d528d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Выявлено нарушений</c:v>
                </c:pt>
                <c:pt idx="1">
                  <c:v>Внесено представлений</c:v>
                </c:pt>
                <c:pt idx="2">
                  <c:v>Принесено протест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3127</c:v>
                </c:pt>
                <c:pt idx="1">
                  <c:v>2673</c:v>
                </c:pt>
                <c:pt idx="2">
                  <c:v>1112</c:v>
                </c:pt>
              </c:numCache>
            </c:numRef>
          </c:val>
        </c:ser>
        <c:gapWidth val="75"/>
        <c:overlap val="0"/>
        <c:axId val="50467935"/>
        <c:axId val="97966101"/>
      </c:barChart>
      <c:catAx>
        <c:axId val="50467935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20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97966101"/>
        <c:crosses val="autoZero"/>
        <c:auto val="1"/>
        <c:lblAlgn val="ctr"/>
        <c:lblOffset val="100"/>
        <c:noMultiLvlLbl val="0"/>
      </c:catAx>
      <c:valAx>
        <c:axId val="97966101"/>
        <c:scaling>
          <c:orientation val="minMax"/>
        </c:scaling>
        <c:delete val="0"/>
        <c:axPos val="l"/>
        <c:numFmt formatCode="General" sourceLinked="0"/>
        <c:majorTickMark val="none"/>
        <c:minorTickMark val="none"/>
        <c:tickLblPos val="none"/>
        <c:spPr>
          <a:ln w="9360">
            <a:solidFill>
              <a:srgbClr val="8794a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1d528d"/>
                </a:solidFill>
                <a:latin typeface="Arial"/>
              </a:defRPr>
            </a:pPr>
          </a:p>
        </c:txPr>
        <c:crossAx val="50467935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303483267716536"/>
          <c:y val="0.0407785999431368"/>
          <c:w val="0.695952318460193"/>
          <c:h val="0.066572003214519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2400" spc="-1" strike="noStrike">
              <a:solidFill>
                <a:srgbClr val="1d528d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243-0DD7-40F5-802E-1B8EEB5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77C-3A37-4656-9B46-E03592A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927-0503-415E-B236-737069B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39C-AD55-413D-BF8A-FDFC625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D9E-A7A1-474F-84B4-94FF5F1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678-6B32-4336-8A1B-AD6CD70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9BA-4D8F-4DB6-A650-CF27029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DCE-58FB-40A3-8E24-7D73DFC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1EC-AA12-4B20-923A-9C5D809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AEA-D86D-4D14-A015-99D0F36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93F-9A13-45AA-8B21-D22C3853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F59-2F82-4D33-ABB2-5206BB6A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4BD-7D89-4A1B-BB5A-4FF3929A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003-AF72-4BAF-992D-9163406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1C8-197F-43E9-B394-88B4F3D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2A78-3876-4B6F-BA71-4FE4D059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828-07C7-4D4A-A94F-46258171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915D-0010-48C7-906B-83DCEF5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F170-FD8C-4D7C-9A6E-41A208A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B7D2-FCB5-4998-8149-724E9EF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F419-9402-4524-8DE6-A2CEC388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271-4F8A-4D13-B85B-8EDAAE8D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295-170F-4653-BFE2-46C01088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4316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266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D912-7679-41B9-BAF0-AE69D290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79600"/>
            <a:ext cx="78483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66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316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6600"/>
            <a:ext cx="8229240" cy="24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 hidden="1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" name="Group 17"/>
          <p:cNvGrpSpPr/>
          <p:nvPr/>
        </p:nvGrpSpPr>
        <p:grpSpPr>
          <a:xfrm>
            <a:off x="-9360" y="2708280"/>
            <a:ext cx="9183240" cy="1501560"/>
            <a:chOff x="-9360" y="2708280"/>
            <a:chExt cx="9183240" cy="1501560"/>
          </a:xfrm>
        </p:grpSpPr>
        <p:sp>
          <p:nvSpPr>
            <p:cNvPr id="3" name="Freeform 18"/>
            <p:cNvSpPr/>
            <p:nvPr/>
          </p:nvSpPr>
          <p:spPr>
            <a:xfrm>
              <a:off x="-4680" y="2708280"/>
              <a:ext cx="9151560" cy="1501560"/>
            </a:xfrm>
            <a:custGeom>
              <a:avLst/>
              <a:gdLst>
                <a:gd name="textAreaLeft" fmla="*/ 0 w 9151560"/>
                <a:gd name="textAreaRight" fmla="*/ 9151920 w 915156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  <a:effectLst>
              <a:outerShdw algn="ctr" dir="4837521" dist="77353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Freeform 19"/>
            <p:cNvSpPr/>
            <p:nvPr/>
          </p:nvSpPr>
          <p:spPr>
            <a:xfrm>
              <a:off x="-9360" y="2747880"/>
              <a:ext cx="9183240" cy="1420560"/>
            </a:xfrm>
            <a:custGeom>
              <a:avLst/>
              <a:gdLst>
                <a:gd name="textAreaLeft" fmla="*/ 0 w 9183240"/>
                <a:gd name="textAreaRight" fmla="*/ 9183600 w 918324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304920" y="228600"/>
            <a:ext cx="1079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080" cy="791640"/>
          </a:xfrm>
          <a:prstGeom prst="rect">
            <a:avLst/>
          </a:prstGeom>
          <a:noFill/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1d528d"/>
                </a:solidFill>
                <a:latin typeface="Verdana"/>
              </a:rPr>
              <a:t>Образец заголовка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E4F439-76A4-444B-974F-384DFA1AC23C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6"/>
          <p:cNvSpPr/>
          <p:nvPr/>
        </p:nvSpPr>
        <p:spPr>
          <a:xfrm>
            <a:off x="0" y="360360"/>
            <a:ext cx="9148320" cy="899640"/>
          </a:xfrm>
          <a:custGeom>
            <a:avLst/>
            <a:gdLst>
              <a:gd name="textAreaLeft" fmla="*/ 0 w 9148320"/>
              <a:gd name="textAreaRight" fmla="*/ 9148680 w 91483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-9360" y="336600"/>
            <a:ext cx="9181800" cy="83772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43160"/>
            <a:ext cx="8229240" cy="513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e71f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1d528d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5b1b1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d528d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d528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7010280" y="28908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5791320" y="6537240"/>
            <a:ext cx="289512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3672000" y="6537240"/>
            <a:ext cx="2133360" cy="32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3D4287-A932-43C5-A9EA-9E510A791C46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00680" cy="1499760"/>
          </a:xfrm>
          <a:prstGeom prst="rect">
            <a:avLst/>
          </a:prstGeom>
          <a:solidFill>
            <a:srgbClr val="ffffff"/>
          </a:solidFill>
          <a:ln w="936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сновные показател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 сфере правовой статистики </a:t>
            </a:r>
            <a:br>
              <a:rPr sz="2800"/>
            </a:b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а территории Красноярского кра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79600"/>
            <a:ext cx="78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остояние законности в сфере соблюдения прав несовершеннолетних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7" name="Содержимое 5"/>
          <p:cNvGraphicFramePr/>
          <p:nvPr/>
        </p:nvGraphicFramePr>
        <p:xfrm>
          <a:off x="0" y="1343160"/>
          <a:ext cx="9143640" cy="5514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3"/>
          <p:cNvSpPr/>
          <p:nvPr/>
        </p:nvSpPr>
        <p:spPr>
          <a:xfrm>
            <a:off x="1071360" y="500040"/>
            <a:ext cx="792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ГО ЗАРЕГИСТРИРОВАНО ПРЕСТУПЛЕНИЙ НА ТЕРРИ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АСНОЯРСКОГО КРАЯ ЗА 2020 ГОД – 48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Диаграмма 26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71360" y="571320"/>
            <a:ext cx="8072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ДЕЛЬНЫЙ ВЕС КАТЕГОРИЙ ЛИЦ СОВЕРШИВШ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СТУПЛЕНИЯ ОТ ЧИСЛА РАССЛЕДОВАННЫХ  ПО ДАННЫМ ИЦ ГУ МВД РОССИИ ПО КР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Диаграмма 9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1000080" y="571320"/>
            <a:ext cx="814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ЛИЧЕСТВО ЖЕНЩИН И НЕСОВЕРШЕННОЛЕТНИХ СОВЕРШИВШИХ ПРЕ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Диаграмма 2"/>
          <p:cNvGraphicFramePr/>
          <p:nvPr/>
        </p:nvGraphicFramePr>
        <p:xfrm>
          <a:off x="0" y="1214280"/>
          <a:ext cx="9143640" cy="564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928800" y="571320"/>
            <a:ext cx="82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ЕЕ КОЛИЧЕСТВО ПРЕСТУПЛЕНИЙ, СОВЕРШ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СТРАННЫМИ ГРАЖДАНАМИ И ЛИЦАМИ БЕЗ ГРАЖД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Диаграмма 2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687400" y="2366280"/>
            <a:ext cx="359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571840" y="3068280"/>
            <a:ext cx="37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несено проте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357280" y="3786120"/>
            <a:ext cx="4214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500200" y="4509360"/>
            <a:ext cx="3898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143080" y="5202720"/>
            <a:ext cx="464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.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928800" y="22147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17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928800" y="29289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1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28800" y="36813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46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21420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928800" y="43959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8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928800" y="51055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56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6858000" y="2286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97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6858000" y="3000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16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6858000" y="37530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9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6143760" y="135720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6858000" y="4467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7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6858000" y="5176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4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, СОБЛЮДЕНИЕМ ПРАВ И СВОБОД ЧЕЛОВЕКА И ГРАЖДАНИН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665440" y="2151720"/>
            <a:ext cx="359856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удовлетворенным протестам отменено и изменено незаконных правовых 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535840" y="2788200"/>
            <a:ext cx="3857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Удовлетворено исков и прекращено дел ввиду добровольного удовлетворения требований прокур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611080" y="3609360"/>
            <a:ext cx="37069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о постановлению прокурора привлечено лиц к административной ответ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357280" y="4245480"/>
            <a:ext cx="4214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едостережено лиц о недопустимости нарушения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15320" y="4881960"/>
            <a:ext cx="3898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материалов для решения вопроса об уголовном преследовании в порядке п. 2 ч. 2 ст. 37 УПК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143080" y="5702760"/>
            <a:ext cx="4643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озбуждено уголовн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928800" y="2000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0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928800" y="2721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4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928800" y="3442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928800" y="41634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928800" y="48844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928800" y="56055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1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6858000" y="2792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6858000" y="3513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6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6858000" y="4234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858000" y="4955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6858000" y="5676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65440" y="2335320"/>
            <a:ext cx="3598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ыявлено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611080" y="300024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Направлено требований об устранении нарушений законодательства в порядке п.3 ч.2 ст. 37 УПК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357280" y="4000680"/>
            <a:ext cx="42145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Внесено представлений и информаций об устранении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143080" y="4977360"/>
            <a:ext cx="4643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Привлечено к дисциплинар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928800" y="20667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236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928800" y="29973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3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928800" y="3927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2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9288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858000" y="2071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13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6858000" y="3000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6858000" y="39290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7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858000" y="48578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35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534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ДЗОР ЗА ИСПОЛНЕНИЕМ ЗАКОНОВ НА ДОСУДЕБНОЙ СТАДИИ УГОЛОВНОГО СУДОПРОИЗВОДСТВА ЧАСТЬ 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665440" y="2261880"/>
            <a:ext cx="359856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остановлений следователей и дознавателей о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611080" y="3286080"/>
            <a:ext cx="3706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б отказе в возбужд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19288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357280" y="4476240"/>
            <a:ext cx="42145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екращении уголовного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143080" y="5500800"/>
            <a:ext cx="46432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chemeClr val="accent4">
                    <a:lumMod val="90000"/>
                    <a:lumOff val="10000"/>
                  </a:schemeClr>
                </a:solidFill>
                <a:latin typeface="Arial"/>
              </a:rPr>
              <a:t>Отменено прокурором и по его инициативе постановлений о приостановлении предварительного рассле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928800" y="22096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928800" y="33066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78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928800" y="44038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1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928800" y="550080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214200" y="121428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 rot="10800000">
            <a:off x="6610680" y="2071800"/>
            <a:ext cx="533160" cy="435744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6858000" y="228132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6858000" y="337824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717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6858000" y="447516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858000" y="5572080"/>
            <a:ext cx="1213920" cy="609120"/>
          </a:xfrm>
          <a:prstGeom prst="can">
            <a:avLst>
              <a:gd name="adj" fmla="val 27866"/>
            </a:avLst>
          </a:prstGeom>
          <a:solidFill>
            <a:srgbClr val="25b1b1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8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6143760" y="1285920"/>
            <a:ext cx="2714400" cy="60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82bd"/>
              </a:gs>
              <a:gs pos="100000">
                <a:srgbClr val="43a9f6"/>
              </a:gs>
            </a:gsLst>
            <a:lin ang="16200000"/>
          </a:gradFill>
          <a:ln>
            <a:solidFill>
              <a:srgbClr val="55a9e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vetlAbstrl">
  <a:themeElements>
    <a:clrScheme name="sample 3">
      <a:dk1>
        <a:srgbClr val="1d528d"/>
      </a:dk1>
      <a:lt1>
        <a:srgbClr val="ffffff"/>
      </a:lt1>
      <a:dk2>
        <a:srgbClr val="000000"/>
      </a:dk2>
      <a:lt2>
        <a:srgbClr val="dddddd"/>
      </a:lt2>
      <a:accent1>
        <a:srgbClr val="25b1b1"/>
      </a:accent1>
      <a:accent2>
        <a:srgbClr val="5bace9"/>
      </a:accent2>
      <a:accent3>
        <a:srgbClr val="ffffff"/>
      </a:accent3>
      <a:accent4>
        <a:srgbClr val="174578"/>
      </a:accent4>
      <a:accent5>
        <a:srgbClr val="acd5d5"/>
      </a:accent5>
      <a:accent6>
        <a:srgbClr val="529bd3"/>
      </a:accent6>
      <a:hlink>
        <a:srgbClr val="6e71f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vetlAbstrl</Template>
  <TotalTime>1059</TotalTime>
  <Application>LibreOffice/7.4.7.2$Linux_X86_64 LibreOffice_project/40$Build-2</Application>
  <AppVersion>15.0000</AppVersion>
  <Words>320</Words>
  <Paragraphs>8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6T03:58:44Z</dcterms:created>
  <dc:creator>ws_635</dc:creator>
  <dc:description>http://propowerpoint.ru - Áåñïëàòíûå øàáëîíû äëÿ ïðåçåíòàöèé. Ïîëåçíûå ñîâåòû è óðîêè PowerPoint .</dc:description>
  <dc:language>en-US</dc:language>
  <cp:lastModifiedBy>Гарбузова Александра Николаевна</cp:lastModifiedBy>
  <dcterms:modified xsi:type="dcterms:W3CDTF">2021-01-26T09:34:08Z</dcterms:modified>
  <cp:revision>111</cp:revision>
  <dc:subject/>
  <dc:title>Статистические показатели Прокуратуры Красноя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a0000000000010243100207f9000400038000</vt:lpwstr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